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012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marL="102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02600" indent="-102600" algn="ctr">
              <a:buClr>
                <a:srgbClr val="ffffff"/>
              </a:buClr>
              <a:buFont typeface="Monac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02600" indent="-102600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102600" indent="-102600" algn="ctr">
              <a:buClr>
                <a:srgbClr val="ffffff"/>
              </a:buClr>
              <a:buFont typeface="Monac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102600" indent="-10260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102600" indent="-10260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102600" indent="-10260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marL="274320" indent="-274320" algn="ctr">
              <a:buClr>
                <a:srgbClr val="ffffff"/>
              </a:buClr>
              <a:buFont typeface="Monac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marL="274320" indent="-274320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marL="274320" indent="-274320" algn="ctr">
              <a:buClr>
                <a:srgbClr val="ffffff"/>
              </a:buClr>
              <a:buFont typeface="Monac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marL="274320" indent="-27432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marL="274320" indent="-27432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marL="274320" indent="-274320" algn="ctr">
              <a:buClr>
                <a:srgbClr val="ffffff"/>
              </a:buClr>
              <a:buFont typeface="Monac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Foreign Policy Goals</a:t>
            </a: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	</a:t>
            </a: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	</a:t>
            </a: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	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1871-1890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Otto von Bismarck and a United Germany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Triple Alliance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Germany, Austria, Italy (New kid on the block)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ret mutual defence pact clause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Goal #3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reate a new balance of power in Europe in which Germany plays a central role as power broker - make sure nobody does anything to upset this balance without Germany’s permission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"/>
          <p:cNvGrpSpPr/>
          <p:nvPr/>
        </p:nvGrpSpPr>
        <p:grpSpPr>
          <a:xfrm>
            <a:off x="1978200" y="1044720"/>
            <a:ext cx="9321480" cy="7454880"/>
            <a:chOff x="1978200" y="1044720"/>
            <a:chExt cx="9321480" cy="7454880"/>
          </a:xfrm>
        </p:grpSpPr>
        <p:pic>
          <p:nvPicPr>
            <p:cNvPr id="476" name="Picture 2" descr=""/>
            <p:cNvPicPr/>
            <p:nvPr/>
          </p:nvPicPr>
          <p:blipFill>
            <a:blip r:embed="rId1"/>
            <a:srcRect l="0" t="4299" r="0" b="4016"/>
            <a:stretch/>
          </p:blipFill>
          <p:spPr>
            <a:xfrm rot="21484800">
              <a:off x="3885840" y="1665360"/>
              <a:ext cx="5475240" cy="64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3" descr=""/>
            <p:cNvPicPr/>
            <p:nvPr/>
          </p:nvPicPr>
          <p:blipFill>
            <a:blip r:embed="rId2"/>
            <a:stretch/>
          </p:blipFill>
          <p:spPr>
            <a:xfrm>
              <a:off x="1978200" y="1044720"/>
              <a:ext cx="9321480" cy="7454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Goal #4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Prevent war from occurring in Europe at all cost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WHY?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1928880" y="155520"/>
            <a:ext cx="8712000" cy="6997680"/>
            <a:chOff x="1928880" y="155520"/>
            <a:chExt cx="8712000" cy="6997680"/>
          </a:xfrm>
        </p:grpSpPr>
        <p:pic>
          <p:nvPicPr>
            <p:cNvPr id="482" name="Picture 2" descr=""/>
            <p:cNvPicPr/>
            <p:nvPr/>
          </p:nvPicPr>
          <p:blipFill>
            <a:blip r:embed="rId1"/>
            <a:srcRect l="703" t="306" r="479" b="0"/>
            <a:stretch/>
          </p:blipFill>
          <p:spPr>
            <a:xfrm rot="21484800">
              <a:off x="2220480" y="820440"/>
              <a:ext cx="8135640" cy="59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" descr=""/>
            <p:cNvPicPr/>
            <p:nvPr/>
          </p:nvPicPr>
          <p:blipFill>
            <a:blip r:embed="rId2"/>
            <a:stretch/>
          </p:blipFill>
          <p:spPr>
            <a:xfrm>
              <a:off x="1928880" y="155520"/>
              <a:ext cx="8712000" cy="699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7149960"/>
            <a:ext cx="11175840" cy="2718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</a:rPr>
              <a:t>Germany will get pulled into any war</a:t>
            </a:r>
            <a:endParaRPr b="0" lang="en-US" sz="6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Goal #5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f war becomes unavoidable, make sure Germany is in a position to win it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Theodore Roosevel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rmer American Presiden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Mr. President, what is the secret to your success in foreign policy?”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Theodore Roosevel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t’s simple, really.  I speak softly, and carry a big stick.”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1"/>
          <a:stretch/>
        </p:blipFill>
        <p:spPr>
          <a:xfrm>
            <a:off x="1130400" y="-888840"/>
            <a:ext cx="10731240" cy="942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Goal #1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Keep France diplomatically isolated from the other Great Powers of Europe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3352680"/>
            <a:ext cx="11175840" cy="37339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Bismarck was not a genius at everything he took on...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How do you unify a people culturally?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90b00"/>
                </a:solidFill>
                <a:latin typeface="Monaco"/>
              </a:rPr>
              <a:t>Kulturkampf</a:t>
            </a:r>
            <a:br>
              <a:rPr sz="7000"/>
            </a:br>
            <a:r>
              <a:rPr b="0" lang="en-US" sz="4800" spc="-1" strike="noStrike">
                <a:solidFill>
                  <a:srgbClr val="d90b00"/>
                </a:solidFill>
                <a:latin typeface="Monaco"/>
              </a:rPr>
              <a:t>“The struggle for culture”</a:t>
            </a:r>
            <a:endParaRPr b="0" lang="en-US" sz="48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"/>
          <p:cNvGrpSpPr/>
          <p:nvPr/>
        </p:nvGrpSpPr>
        <p:grpSpPr>
          <a:xfrm>
            <a:off x="7122960" y="1515960"/>
            <a:ext cx="4572000" cy="6261120"/>
            <a:chOff x="7122960" y="1515960"/>
            <a:chExt cx="4572000" cy="6261120"/>
          </a:xfrm>
        </p:grpSpPr>
        <p:pic>
          <p:nvPicPr>
            <p:cNvPr id="496" name="Picture 2" descr=""/>
            <p:cNvPicPr/>
            <p:nvPr/>
          </p:nvPicPr>
          <p:blipFill>
            <a:blip r:embed="rId1"/>
            <a:stretch/>
          </p:blipFill>
          <p:spPr>
            <a:xfrm rot="21487200">
              <a:off x="7403760" y="2109600"/>
              <a:ext cx="401292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3" descr=""/>
            <p:cNvPicPr/>
            <p:nvPr/>
          </p:nvPicPr>
          <p:blipFill>
            <a:blip r:embed="rId2"/>
            <a:stretch/>
          </p:blipFill>
          <p:spPr>
            <a:xfrm>
              <a:off x="7122960" y="1515960"/>
              <a:ext cx="4572000" cy="62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Persecute Catholics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and any other stubborn Germans who don’t fit in with his vision of the new country.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"/>
          <p:cNvGrpSpPr/>
          <p:nvPr/>
        </p:nvGrpSpPr>
        <p:grpSpPr>
          <a:xfrm>
            <a:off x="7110360" y="1503360"/>
            <a:ext cx="4572000" cy="6261120"/>
            <a:chOff x="7110360" y="1503360"/>
            <a:chExt cx="4572000" cy="6261120"/>
          </a:xfrm>
        </p:grpSpPr>
        <p:pic>
          <p:nvPicPr>
            <p:cNvPr id="501" name="Picture 2" descr=""/>
            <p:cNvPicPr/>
            <p:nvPr/>
          </p:nvPicPr>
          <p:blipFill>
            <a:blip r:embed="rId1"/>
            <a:stretch/>
          </p:blipFill>
          <p:spPr>
            <a:xfrm rot="21487200">
              <a:off x="7391160" y="2097000"/>
              <a:ext cx="401292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3" descr=""/>
            <p:cNvPicPr/>
            <p:nvPr/>
          </p:nvPicPr>
          <p:blipFill>
            <a:blip r:embed="rId2"/>
            <a:stretch/>
          </p:blipFill>
          <p:spPr>
            <a:xfrm>
              <a:off x="7110360" y="1503360"/>
              <a:ext cx="4572000" cy="62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Persecute Socialists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Accuse them of being dangerous communists, and then implement most of their ideas.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The Art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Encouraged production of great works of art, sculpture and music which glorified the new German state. 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324160"/>
            <a:ext cx="11175840" cy="77976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691e"/>
                </a:solidFill>
                <a:latin typeface="Monaco"/>
              </a:rPr>
              <a:t>TASK:</a:t>
            </a: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  Get out a piece of paper and writing instrument.</a:t>
            </a:r>
            <a:br>
              <a:rPr sz="7000"/>
            </a:br>
            <a:r>
              <a:rPr b="0" lang="en-US" sz="7000" spc="-1" strike="noStrike">
                <a:solidFill>
                  <a:srgbClr val="ce3b00"/>
                </a:solidFill>
                <a:latin typeface="Monaco"/>
              </a:rPr>
              <a:t>Yes - right now</a:t>
            </a:r>
            <a:br>
              <a:rPr sz="7000"/>
            </a:br>
            <a:r>
              <a:rPr b="0" lang="en-US" sz="7000" spc="-1" strike="noStrike">
                <a:solidFill>
                  <a:srgbClr val="f3eb00"/>
                </a:solidFill>
                <a:latin typeface="Monaco"/>
              </a:rPr>
              <a:t>Yes - you are going to hand this in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Listen to the music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11175840" cy="67435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magine you are a screen writer.  You are writing the script for a movie.  You must include the following piece of music.  Write the story that you will tell that goes with the music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What story is in your minds’ eye?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Do not stop writing until the mucis stops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onaco"/>
                <a:hlinkClick r:id="rId5" action="ppaction://hlinksldjump"/>
              </a:rPr>
              <a:t>GO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WHY?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"/>
          <p:cNvGrpSpPr/>
          <p:nvPr/>
        </p:nvGrpSpPr>
        <p:grpSpPr>
          <a:xfrm>
            <a:off x="6545160" y="1135080"/>
            <a:ext cx="5168880" cy="7035840"/>
            <a:chOff x="6545160" y="1135080"/>
            <a:chExt cx="5168880" cy="7035840"/>
          </a:xfrm>
        </p:grpSpPr>
        <p:pic>
          <p:nvPicPr>
            <p:cNvPr id="456" name="Picture 2" descr=""/>
            <p:cNvPicPr/>
            <p:nvPr/>
          </p:nvPicPr>
          <p:blipFill>
            <a:blip r:embed="rId1"/>
            <a:stretch/>
          </p:blipFill>
          <p:spPr>
            <a:xfrm rot="21487200">
              <a:off x="6838560" y="1738080"/>
              <a:ext cx="4578120" cy="61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3" descr=""/>
            <p:cNvPicPr/>
            <p:nvPr/>
          </p:nvPicPr>
          <p:blipFill>
            <a:blip r:embed="rId2"/>
            <a:stretch/>
          </p:blipFill>
          <p:spPr>
            <a:xfrm>
              <a:off x="6545160" y="1135080"/>
              <a:ext cx="5168880" cy="703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aco"/>
              </a:rPr>
              <a:t>Alone, France is powerless </a:t>
            </a:r>
            <a:endParaRPr b="0" lang="en-US" sz="48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But...If France was to join with another of the Great Powers they could potentially cause difficulty for Germany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Goal #2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ure Germany’s borders - ensure that Germany is on good terms with their neighbours...except France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"/>
          <p:cNvGrpSpPr/>
          <p:nvPr/>
        </p:nvGrpSpPr>
        <p:grpSpPr>
          <a:xfrm>
            <a:off x="725400" y="306360"/>
            <a:ext cx="11557080" cy="9131400"/>
            <a:chOff x="725400" y="306360"/>
            <a:chExt cx="11557080" cy="9131400"/>
          </a:xfrm>
        </p:grpSpPr>
        <p:pic>
          <p:nvPicPr>
            <p:cNvPr id="463" name="Picture 2" descr=""/>
            <p:cNvPicPr/>
            <p:nvPr/>
          </p:nvPicPr>
          <p:blipFill>
            <a:blip r:embed="rId1"/>
            <a:srcRect l="7068" t="244" r="6853" b="0"/>
            <a:stretch/>
          </p:blipFill>
          <p:spPr>
            <a:xfrm rot="21484800">
              <a:off x="1050840" y="1017720"/>
              <a:ext cx="10906200" cy="80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3" descr=""/>
            <p:cNvPicPr/>
            <p:nvPr/>
          </p:nvPicPr>
          <p:blipFill>
            <a:blip r:embed="rId2"/>
            <a:stretch/>
          </p:blipFill>
          <p:spPr>
            <a:xfrm>
              <a:off x="725400" y="306360"/>
              <a:ext cx="11557080" cy="9131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Dreikaiserbund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e “Three Emperor’s League”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Russia, Austria, Germany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f one member goes to war, the other two will remain neutra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Monaco"/>
              </a:rPr>
              <a:t>Why is this doomed to fail in the long run?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Dual Alliance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ret deal - Austria &amp; Germany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f one goes to war, the other will back them up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Reinsurance Treaty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spcBef>
                <a:spcPts val="2999"/>
              </a:spcBef>
              <a:buSzPct val="14297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Russia pulls out of Three Emperors League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ret Deal - Russia &amp; Germany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f one goes to war, the other will back them up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ED18</cp:lastModifiedBy>
  <dcterms:modified xsi:type="dcterms:W3CDTF">2011-11-01T15:17:30Z</dcterms:modified>
  <cp:revision>3</cp:revision>
  <dc:subject/>
  <dc:title>Foreign Policy Goals   </dc:title>
</cp:coreProperties>
</file>